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953-2DF5-464C-A149-3C742120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054-C90D-4AE7-9B20-1E22952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4EB-41BB-423F-AAD6-2AEAEC30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5DF-601B-4684-BD6D-F56096DE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715-36DF-4751-887E-6CE01F8B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C2A-991D-4AF6-8547-4F3C0492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C88-2D92-4ED2-B123-0585A93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09C-6EF8-405B-AE14-7B27884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8D8-EC4E-4A1C-B402-B7074FA5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B17-D55F-4C98-BC47-50EBD5B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52A-6A5C-48A1-984B-1CBB092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DF2-ED38-4E72-B167-30E8E69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846-293B-46E9-90F3-C3341CE62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Teacher Left Beh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Back and Get Ready to Thi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your l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leave no teacher behind, you will need to change you perspective on what and how we do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re is more than one righ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yourself in the right place to maximize your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your technical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urn the ordinary into extraordi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ol 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 minutes -- Have one or two people review each document: certification, transfer rubric, quality instruction rubr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 minutes -- Identify perceived gaps in current plan and post on large poster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 minutes -- Prioritize list by indicating gaps by perceived importance to increasing the chance of transf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 minutes --Take top two and brainstorm barriers that keep you from implemen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 minutes -- Brainstorm ways around the barri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raining F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 the entire article and highlight words and phrases that catch your m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your highlighted work generate two essential questions and email them to cherryl.paul@dvusd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essential questions are open ended questions that are geared to create interest and thinking on the top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o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your trio use the following the dissect the PD certifi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 each area (decision making, before, after) to determine what your school is incorporating, the most difficult to incorporate, and which are most critical to impr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r group will report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aschool.us/random/random-pair.ph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edtech.kennesaw.edu/intech/randomnumbergenerator.ht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y Effective Schools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295280"/>
          <a:ext cx="8229600" cy="402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 clear man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goal 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al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f man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ranteed and Viable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llenging Goals and Effective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ental Invol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and Orderly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giality and Professio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ctiona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752480" y="1828800"/>
            <a:ext cx="2971800" cy="28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05320" y="1676520"/>
            <a:ext cx="2971800" cy="28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2666880" y="3048120"/>
            <a:ext cx="2971800" cy="28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945480" cy="30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49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dates and In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496200" cy="3112920"/>
          </a:xfrm>
          <a:prstGeom prst="rect">
            <a:avLst/>
          </a:prstGeom>
          <a:ln w="0">
            <a:noFill/>
          </a:ln>
        </p:spPr>
      </p:pic>
      <p:cxnSp>
        <p:nvCxnSpPr>
          <p:cNvPr id="59" name="Straight Arrow Connector 5"/>
          <p:cNvCxnSpPr/>
          <p:nvPr/>
        </p:nvCxnSpPr>
        <p:spPr>
          <a:xfrm>
            <a:off x="1600200" y="4343040"/>
            <a:ext cx="2210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0" name="Straight Arrow Connector 15"/>
          <p:cNvCxnSpPr/>
          <p:nvPr/>
        </p:nvCxnSpPr>
        <p:spPr>
          <a:xfrm>
            <a:off x="5257800" y="5105160"/>
            <a:ext cx="228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Straight Arrow Connector 18"/>
          <p:cNvCxnSpPr/>
          <p:nvPr/>
        </p:nvCxnSpPr>
        <p:spPr>
          <a:xfrm>
            <a:off x="3276360" y="4723920"/>
            <a:ext cx="2515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0:20:10Z</dcterms:created>
  <dc:creator>Debra Webb</dc:creator>
  <dc:description/>
  <dc:language>en-US</dc:language>
  <cp:lastModifiedBy>Debra Webb</cp:lastModifiedBy>
  <dcterms:modified xsi:type="dcterms:W3CDTF">2012-04-03T23:09:32Z</dcterms:modified>
  <cp:revision>7</cp:revision>
  <dc:subject/>
  <dc:title>No Teacher Left Behind</dc:title>
</cp:coreProperties>
</file>